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13.jpeg" ContentType="image/jpeg"/>
  <Override PartName="/ppt/media/image2.pct" ContentType="image/x-pict"/>
  <Override PartName="/ppt/media/image3.png" ContentType="image/png"/>
  <Override PartName="/ppt/media/image4.pct" ContentType="image/x-pict"/>
  <Override PartName="/ppt/media/image5.pct" ContentType="image/x-pict"/>
  <Override PartName="/ppt/media/image6.jpeg" ContentType="image/jpeg"/>
  <Override PartName="/ppt/media/image10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jpeg" ContentType="image/jpeg"/>
  <Override PartName="/ppt/media/image1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6C9D-B71B-47D5-90E0-D7AE3D057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Asaro Mud Men, New Guinea, 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inum/palladium print,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uedras, Morocco, 19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inum/palladium print, 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Y Socia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man Cap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of Pablo Pica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zco Children, 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inum/palladium print, 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51B-19CB-4CAB-928C-2A42D5E2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7D3-0FC7-4347-9313-279AA0AB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325E-E25F-43E2-A355-54E4E38B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2C9-F8B5-462C-89C2-A23F8083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A04-A807-474F-822C-8D0A8F13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A8E-77CB-4305-A1BB-ECA50194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7F7-E101-442B-A38A-50586116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2C8-D4B4-48B5-9E9C-693C529D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9E3-05A3-4055-BE21-6747DD69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EB7-932A-481F-9FE3-E79B39E6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F28-5BE8-4011-B485-87D50C1A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CFD-C2E6-496A-B534-12D10805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150B-670F-4C53-8A58-B993B3994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40040" y="609480"/>
            <a:ext cx="5262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19160" y="609480"/>
            <a:ext cx="530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49360" y="609480"/>
            <a:ext cx="4443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9960" y="671400"/>
            <a:ext cx="54626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66840" y="152280"/>
            <a:ext cx="47005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303200"/>
            <a:ext cx="8381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51120" y="609480"/>
            <a:ext cx="5441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301920" y="838080"/>
            <a:ext cx="327024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17640" y="609480"/>
            <a:ext cx="3706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35280" y="609480"/>
            <a:ext cx="3673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30400" y="939960"/>
            <a:ext cx="5081760" cy="49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33400" y="609480"/>
            <a:ext cx="567540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61722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9:59:30Z</dcterms:created>
  <dc:creator>Ruth Dusseault</dc:creator>
  <dc:description/>
  <dc:language>en-US</dc:language>
  <cp:lastModifiedBy>Ruth Dusseault</cp:lastModifiedBy>
  <dcterms:modified xsi:type="dcterms:W3CDTF">2007-01-28T10:41:35Z</dcterms:modified>
  <cp:revision>16</cp:revision>
  <dc:subject/>
  <dc:title>PowerPoint Presentation</dc:title>
</cp:coreProperties>
</file>